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82AD-F892-465C-9BE8-B20516476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turing environment allows kids to create bonds and attachments.  The dev of positive parent child relationships is based on establishing quality attachments.  Attachment is necessary for positive self concept.  Defined as the behavior that a person exhibits to obtain and maintain proximity to the attachment figure, usually the mother but also the father and in their absence someone the child knows.  In many diverse families, may be grandparent.  Attachment strongest when child is sick tired, or scared but is crucial throughout lif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udied by Skeels, Sptiz and Bowlby who studied failure to thrive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AC03-2C91-4111-AC56-7CBC1D675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old Skee</a:t>
            </a: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D7F1-5665-4AB1-B0CE-E43A32E96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mo - more attention and more responsive to primary caregiver (smiling at, vocalizing to, and visually following)</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 8mo - stranger anxiet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to primary caregiver intensified (concern about being near caregiver and fearful of those they don’t know) peaks around 8 months, worse if child is hungry, tired, sick, or alarme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 to other caregivers (daddy, sibling, other caregivers; these attachments don’t lessen the intensity to primary caregiv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mo -2/3yrs - try to follow primary caregiver (crawl to them, greet when retur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yr9mo -3yr - better able to accept parents temporary absenc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C189-55F6-42ED-91DB-10D26C676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 homeostatic control (controls stimuli by shutting out or reaching fo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attend to social cu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take in and respond to the information as well as to withdraw (3 to 4 month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a sense of autonomy and initiates and responds to cu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ent recognizes and encourages the infant’s desire to have control over the environment, he develops a sense of competence.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0755-D49A-4893-A2DE-556B9CFA4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ho lack attachment fr. infancy on may have enormous effects on social interaction with dysfunctional family and peer relationships.  </a:t>
            </a: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595C-EEC9-4E40-A867-EB9DD2A23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1B1F-F950-4847-BFDE-6AF8F137B28A}" type="slidenum">
              <a:rPr b="0" lang="en-US" sz="1200" spc="-1" strike="noStrike">
                <a:solidFill>
                  <a:srgbClr val="000000"/>
                </a:solidFill>
                <a:latin typeface="Tahoma"/>
                <a:ea typeface="ＭＳ Ｐゴシック"/>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ong families are essential because they help to create a nurturing society, transforming the society by actively participating in different systems that in turn help them have a healthy, successful lif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ultrasound to study fetal brain dev and neural functioning and scanning techniques such as MRI and PET scans to learn how the brain works after the baby is bor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and spinal cord begin development a few days after conception: nerve cells are formed and migrate, then rapidly extend axons and dendrites and form connections with each other called synapes. The nerve cells are able to communicate w each other and the synapes are refined through myelinat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s in integrated, overlapping fashion:  Structures that control cognition(thinking), perception (sensing), and action (moving) develop at the same time with a network of interconnections that are separate but functional parallel to each other.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neurons peak before birth will be produced throughout life but less rapidly.</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size increases more gradually too.  Newborn ¼ size of adult brain.  Grows to 80 % of adult size by age 3 and 90% by age 5.  Processing increases from a newborn’s ability to process at 1/16 the speed of an adult to maximum speed and size at about age 15.</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13DB-6F69-4B19-9B55-F4B407EF9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A22A-9E90-46B1-8EE0-026006B35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ttenlocker: windows of opportunity, language 9 mo; vision: 1 mo. poor contrast sensitivity and color recognition, 2 mo. distinguish bw colors red, blue, green but still about 20 times less than an adults, 3 mo. see shapes more clearly but depth perception not fully dev.,  color similar to adults, sense of recognition of parents; 6 mo rapid improvement can focus at diff. distances similar to adult and motion direction continues to improv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e:Subway analogy; pruning for efficienc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D927-54B8-4873-B385-C40D129D0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of how rapidly a newborn’s brain develops, we realize how critical interactions are to a growing child.  How can parents and caregivers best aid the development of the brai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Interactions, Emotional and Cognitive Interactions, and a Positive Environment for Healthy Families and Children</a:t>
            </a: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EBD1-DD4D-47B2-BBD6-04CF3911C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link bw feelings and brain development that is critical in the early years.  Children who have healthy emotional dev. have supportive families that guide them through different emotions in order to dev. strong cognitive skills such as problem solving, perception, and reasoning.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 responds with interest and pleasure to touch and talk from familiar caregiver: </a:t>
            </a:r>
            <a:r>
              <a:rPr b="0" lang="en-US" sz="1200" spc="-1" strike="noStrike">
                <a:solidFill>
                  <a:srgbClr val="000000"/>
                </a:solidFill>
                <a:latin typeface="Arial"/>
              </a:rPr>
              <a:t>helps child dev sense of security and helps organize senses and motor responses.  Children who do not rec interaction from their caregivers withdraw and become apathetic or desponden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s begin to respond to parent’s smile (~4mo):  </a:t>
            </a:r>
            <a:r>
              <a:rPr b="0" lang="en-US" sz="1200" spc="-1" strike="noStrike">
                <a:solidFill>
                  <a:srgbClr val="000000"/>
                </a:solidFill>
                <a:latin typeface="Arial"/>
              </a:rPr>
              <a:t>Emotional responses precede motor ability and can be observed by watching a 4-5 mo old smile in response to others; by 9 mo. two way communication with mother talking and baby respond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ater ability to problem-solve (12-18mo)</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fect cueing (toddlers)  </a:t>
            </a:r>
            <a:r>
              <a:rPr b="0" lang="en-US" sz="1200" spc="-1" strike="noStrike">
                <a:solidFill>
                  <a:srgbClr val="000000"/>
                </a:solidFill>
                <a:latin typeface="Arial"/>
              </a:rPr>
              <a:t>Emotional cue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mbols that have purpose and meaning (pre-tee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ity to use cause-and effect thinking: </a:t>
            </a:r>
            <a:r>
              <a:rPr b="0" lang="en-US" sz="1200" spc="-1" strike="noStrike">
                <a:solidFill>
                  <a:srgbClr val="000000"/>
                </a:solidFill>
                <a:latin typeface="Arial"/>
              </a:rPr>
              <a:t>recognize other’s ideas with his or her own intent and feelings. allows for impulse control, judgment, and reality tes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C922-F8AA-4408-AAB9-A98C4FC02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interactions have a decisive impact on the architecture of the brain and on the nature and extent of adult capacities; don’t just create a context, effect how brain is wired</a:t>
            </a: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FE0B-5BD4-4239-93E8-8045A9A0B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DDA2-3B08-4130-A539-DC3E4A18B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ong families are essential because they help to create a nurturing society, transforming the society by actively participating in different systems that in turn help them have a healthy, successful lif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gardless of how nurturing the society, at times even strong families face difficulties that test their well being (multiple jobs).  Although family stressors can be difficult for children, families that are strong are often resilient and learn to work out problems because they care for each other, particularly their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children have strong family members that continuously interact with them in a safe (even if challenging) environment, they develop a positive self concept which helps them in all aspects of lif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FA04-740B-4011-AC53-092891B1E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 or a group of individuals (such as those that form support systems) who help meet the cognitive, linguistic, physical, socioemotional, and cultural needs of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 families are so important, resources must be provided to support their needs, specifically the needs of the children.  Extended family members such as grandparents who are often given the responsibility of taking care of the children, are an important resource of support for families. BC of their role as “parents” schools must recognize and help provide a caring environment for the childre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ring environment is one that promotes collaboration bw school and families by providing adequate and supportive child care, ensuring small class sizes individualized attn (esp. young children), and actively involving parents and caregivers in the child’s development and educa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ust work together with parents by collaborating on children’s linguistic, social, emotional, physical, cognitive, and cultural development, giving them the opportunities to dev. the skills to become educated citizens.</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2A3C-EA6E-48D1-84B6-47CE0C469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ust have the desire to teach children who come from a variety of cultural and linguistic backgrounds as well as varying development level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ely being aware of diversity isn’t sufficient.  Teachers must know about their Ss families, including their cultural practices, childrearing practices, traditions, and each individual family’s funds of knowledge or why they do the things they do.  (Ham illustra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can be passed along from one generation to another or can be developed as new families are forme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nderstand the importance of funds of knowledge because it is why families do the things they do.  Criticizing parents who do things differently than we would creates a disconnect that prevents true collaboration and hurts all involved.  T must value the funds of knowledge that each child comes with.</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s teachers: children are made reader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5B99-3F59-48B8-9A31-E179E38FE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way to see it is in dramatic play..recognize cultural traits, language, values and beliefs, ways of discipline, household care, and value of education.  Own examples?</a:t>
            </a: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52AB-1850-445C-870E-006C805BA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 understand the basis for educational and childrearing practices</a:t>
            </a: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D116-3A8B-4115-9C02-78DD5F4D2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hildren and parents are affected by the family system in which they participate.  Family sys. are influenced by their cultural and historical background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amily undergoes a transitional event (birth of child, move to new location, illness) the system will have to change to accommodate the change.  Change may be gradual or sudden, positive or negative, minimal or shattering.  ex divor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need to know what’s happening in the family sys so they can respond appropriately to the child.</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C2CE-37E4-4562-9B15-4DDF0D161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ystem – family and peers (face to face interaction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osystem – formal organizations Ex: school, family, peers, healthcare services, religions institutions, playground</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system – influences through parents Ex: parent’s employment, friends of family, government action, social welfare services, legal servic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system – attitudes and ideologies of culture (environmental events and cultural laws, traditions, and custom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osystem – time as it relates to life changes (child getting older, aging or death of family membe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role requires support of different systems.  Helps us think about families facing homelessness, violence, chemical dependenc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know: children from culturally and linguistically diverse families, these systems may not work so successfully.  The Meso and Exo often don’t value their culture and their funds of knowledge are considered deficit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067B-941C-4360-BABD-45121433F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20506-1172-486C-8FFF-C445EEFFF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B7CE-B691-4799-8718-1AB89CB8F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4E7CC-9F59-4BCF-9A7B-9C2420ECA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C4A9B-19EE-4382-AD7B-AB8358D0A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EBF01-0F6D-4179-B34E-073C7BC80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C9A20-19DB-40ED-8C66-24417E86D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191F5-43CE-4304-BD17-9020C37A2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1A9BE-658D-4CF7-9A0A-3B7C90CD4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357DA-7229-4734-B655-27AD18D1F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A69FE-2C9E-4A6D-9C76-70749EF6D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CAF5-DE2F-4B8F-8D98-24D103247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42F3E-B56F-47F5-ABF9-DB1D0361E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FF92-CFBC-46F3-97CD-C89DA93BD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F778D-E0D7-4685-A993-081A9FEAA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23574-5722-4CE7-B0DF-A0527FF08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F04A9-1244-45FA-959D-C87A0136C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E49A7-5398-462A-BDC7-2BB5F66EF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6BBDB-2B4F-4658-AFBA-893DE658C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AF23-452B-4CFC-9288-7BB9FD963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6E8F-7BB4-4C90-A766-2E08BA2E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B704-7B7B-4171-8D5B-ADFE11065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19DF-AB52-442B-804B-73B879775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01D2-51FB-4B95-A2ED-008B294D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4D6A-E0B9-48E5-B0B3-605C278BA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A110-3C07-415E-8F11-2905EEDAB21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FA4C-ECC9-4E7F-83E2-F9797CD8636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zerotothree.org/child-development/brain-development/brain-quiz.html" TargetMode="External"/><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361960"/>
            <a:ext cx="7772400" cy="1523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ea typeface="ＭＳ Ｐゴシック"/>
              </a:rPr>
              <a:t>Family - Essential for a Child’s Developmen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371240" y="4038120"/>
            <a:ext cx="701028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CFS 3600</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Dr. Kristen Pennycuff Tr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a:t>
            </a:r>
            <a:endParaRPr b="0" lang="en-US" sz="4400" spc="-1" strike="noStrike">
              <a:solidFill>
                <a:srgbClr val="000000"/>
              </a:solidFill>
              <a:latin typeface="Comic Sans MS"/>
            </a:endParaRPr>
          </a:p>
        </p:txBody>
      </p:sp>
      <p:sp>
        <p:nvSpPr>
          <p:cNvPr id="191" name=""/>
          <p:cNvSpPr txBox="1"/>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ttachment behavior - the behavior that a person exhibits to obtain and maintain proximity to the attachment figure</a:t>
            </a:r>
            <a:endParaRPr b="0" lang="en-US" sz="2800" spc="-1" strike="noStrike">
              <a:solidFill>
                <a:srgbClr val="000000"/>
              </a:solidFill>
              <a:latin typeface="Comic Sans MS"/>
            </a:endParaRPr>
          </a:p>
          <a:p>
            <a:pPr marL="332640" indent="-33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Nurturing environment allows children to form bonds and attachments</a:t>
            </a:r>
            <a:endParaRPr b="0" lang="en-US" sz="2800" spc="-1" strike="noStrike">
              <a:solidFill>
                <a:srgbClr val="000000"/>
              </a:solidFill>
              <a:latin typeface="Comic Sans MS"/>
            </a:endParaRPr>
          </a:p>
          <a:p>
            <a:pPr marL="332640" indent="-33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Positive parent-child relationships based on establishing quality attachments</a:t>
            </a:r>
            <a:endParaRPr b="0" lang="en-US" sz="2800" spc="-1" strike="noStrike">
              <a:solidFill>
                <a:srgbClr val="000000"/>
              </a:solidFill>
              <a:latin typeface="Comic Sans MS"/>
            </a:endParaRPr>
          </a:p>
          <a:p>
            <a:pPr marL="332640" indent="-3326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3" name=""/>
          <p:cNvSpPr txBox="1"/>
          <p:nvPr/>
        </p:nvSpPr>
        <p:spPr>
          <a:xfrm>
            <a:off x="685800" y="1828800"/>
            <a:ext cx="7696080" cy="36576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Skeels - 1966</a:t>
            </a:r>
            <a:endParaRPr b="0" lang="en-US" sz="22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Experimental Group: Placed in institution and received lots of attention, later adopted and raised “normally”</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Control Group: stayed in traditional orphanage </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Retest between 6-52 months; Experimental group had significant increase in IQ; Control group had significant decrease in IQ</a:t>
            </a:r>
            <a:endParaRPr b="0" lang="en-US" sz="19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Research suggests:</a:t>
            </a:r>
            <a:endParaRPr b="0" lang="en-US" sz="22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importance of nurturing early environment </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poor initial environment can be reversed by enriched personal interaction</a:t>
            </a:r>
            <a:endParaRPr b="0" lang="en-US" sz="1900" spc="-1" strike="noStrike">
              <a:solidFill>
                <a:srgbClr val="000000"/>
              </a:solidFill>
              <a:latin typeface="Comic Sans MS"/>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importance of funds of knowledge gained through nurturing interactions</a:t>
            </a:r>
            <a:endParaRPr b="0" lang="en-US" sz="1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5" name=""/>
          <p:cNvSpPr txBox="1"/>
          <p:nvPr/>
        </p:nvSpPr>
        <p:spPr>
          <a:xfrm>
            <a:off x="1182240" y="1143000"/>
            <a:ext cx="7504200" cy="4989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pitz – </a:t>
            </a:r>
            <a:r>
              <a:rPr b="0" i="1" lang="en-US" sz="2400" spc="-1" strike="noStrike">
                <a:solidFill>
                  <a:srgbClr val="000000"/>
                </a:solidFill>
                <a:latin typeface="Comic Sans MS"/>
                <a:ea typeface="ＭＳ Ｐゴシック"/>
              </a:rPr>
              <a:t>The First Year of Life</a:t>
            </a:r>
            <a:r>
              <a:rPr b="0" lang="en-US" sz="2400" spc="-1" strike="noStrike">
                <a:solidFill>
                  <a:srgbClr val="000000"/>
                </a:solidFill>
                <a:latin typeface="Comic Sans MS"/>
                <a:ea typeface="ＭＳ Ｐゴシック"/>
              </a:rPr>
              <a:t>, 1965</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Nursery Group: toy(s), nurtured, saw other being nurtur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Foundling Group: no toys, no nurturing, isolated to crib, fed, bathed etc.</a:t>
            </a:r>
            <a:r>
              <a:rPr b="0" lang="en-US" sz="2000" spc="-1" strike="noStrike">
                <a:solidFill>
                  <a:srgbClr val="000000"/>
                </a:solidFill>
                <a:latin typeface="Comic Sans MS"/>
                <a:ea typeface="ＭＳ Ｐゴシック"/>
              </a:rPr>
              <a:t>	</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Foundling Group Findings</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0-3months – babies appeared normal</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By end of 2years of age, 34 of 91 children had died</a:t>
            </a:r>
            <a:endParaRPr b="0" lang="en-US" sz="2000" spc="-1" strike="noStrike">
              <a:solidFill>
                <a:srgbClr val="000000"/>
              </a:solidFill>
              <a:latin typeface="Comic Sans MS"/>
            </a:endParaRPr>
          </a:p>
          <a:p>
            <a:pPr lvl="2" marL="96984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4yr – “20 could not dress themselves, six were not toilet trained, six could not talk, five had a vocabulary of two words, eight had vocabularies of three to five words, and only one was able to speak in sentenc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
            </a:r>
            <a:r>
              <a:rPr b="0" lang="en-US" sz="2000" spc="-1" strike="noStrike">
                <a:solidFill>
                  <a:srgbClr val="000000"/>
                </a:solidFill>
                <a:latin typeface="Comic Sans MS"/>
                <a:ea typeface="ＭＳ Ｐゴシック"/>
              </a:rPr>
              <a:t>Absence of mothering equals emotional starva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969840" indent="-228600">
              <a:spcBef>
                <a:spcPts val="1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lvl="1" marL="743040" indent="-28584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Theories</a:t>
            </a:r>
            <a:endParaRPr b="0" lang="en-US" sz="4400" spc="-1" strike="noStrike">
              <a:solidFill>
                <a:srgbClr val="000000"/>
              </a:solidFill>
              <a:latin typeface="Comic Sans MS"/>
            </a:endParaRPr>
          </a:p>
        </p:txBody>
      </p:sp>
      <p:sp>
        <p:nvSpPr>
          <p:cNvPr id="197" name=""/>
          <p:cNvSpPr txBox="1"/>
          <p:nvPr/>
        </p:nvSpPr>
        <p:spPr>
          <a:xfrm>
            <a:off x="685800" y="1828800"/>
            <a:ext cx="7696080" cy="3657600"/>
          </a:xfrm>
          <a:prstGeom prst="rect">
            <a:avLst/>
          </a:prstGeom>
          <a:noFill/>
          <a:ln w="0">
            <a:noFill/>
          </a:ln>
        </p:spPr>
        <p:txBody>
          <a:bodyPr anchor="t">
            <a:normAutofit/>
          </a:bodyPr>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ＭＳ Ｐゴシック"/>
              </a:rPr>
              <a:t>Bowlby – 1951</a:t>
            </a:r>
            <a:endParaRPr b="0" lang="en-US" sz="3000" spc="-1" strike="noStrike">
              <a:solidFill>
                <a:srgbClr val="000000"/>
              </a:solidFill>
              <a:latin typeface="Comic Sans MS"/>
            </a:endParaRPr>
          </a:p>
          <a:p>
            <a:pPr lvl="1" marL="743040" indent="-28584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World Health Organization research on effects of deprivation on personality development</a:t>
            </a:r>
            <a:endParaRPr b="0" lang="en-US" sz="2200" spc="-1" strike="noStrike">
              <a:solidFill>
                <a:srgbClr val="000000"/>
              </a:solidFill>
              <a:latin typeface="Comic Sans MS"/>
            </a:endParaRPr>
          </a:p>
          <a:p>
            <a:pPr lvl="1" marL="743040" indent="-28584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a:t>
            </a:r>
            <a:r>
              <a:rPr b="0" lang="en-US" sz="2200" spc="-1" strike="noStrike">
                <a:solidFill>
                  <a:srgbClr val="000000"/>
                </a:solidFill>
                <a:latin typeface="Comic Sans MS"/>
                <a:ea typeface="ＭＳ Ｐゴシック"/>
              </a:rPr>
              <a:t>It is submitted that the evidence is now such that it leaves no room for doubt regarding the general proposition that the prolonged deprivation of the young child of maternal care may have grave and far-reaching effects on his character and so the whole of his future life” Bowlby, 1966 </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199" name=""/>
          <p:cNvSpPr txBox="1"/>
          <p:nvPr/>
        </p:nvSpPr>
        <p:spPr>
          <a:xfrm>
            <a:off x="685800" y="1828800"/>
            <a:ext cx="7696080" cy="3657600"/>
          </a:xfrm>
          <a:prstGeom prst="rect">
            <a:avLst/>
          </a:prstGeom>
          <a:noFill/>
          <a:ln w="0">
            <a:noFill/>
          </a:ln>
        </p:spPr>
        <p:txBody>
          <a:bodyPr anchor="t">
            <a:normAutofit fontScale="97000"/>
          </a:bodyPr>
          <a:p>
            <a:pPr marL="332640" indent="-3326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owlby – 1982</a:t>
            </a:r>
            <a:endParaRPr b="0" lang="en-US" sz="28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3mo - more attention and more responsive to primary caregiver</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6 - 8mo - stranger anxiety</a:t>
            </a:r>
            <a:endParaRPr b="0" lang="en-US" sz="2400" spc="-1" strike="noStrike">
              <a:solidFill>
                <a:srgbClr val="000000"/>
              </a:solidFill>
              <a:latin typeface="Comic Sans MS"/>
            </a:endParaRPr>
          </a:p>
          <a:p>
            <a:pPr lvl="2" marL="1108440" indent="-221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to primary caregiver intensified</a:t>
            </a:r>
            <a:endParaRPr b="0" lang="en-US" sz="2000" spc="-1" strike="noStrike">
              <a:solidFill>
                <a:srgbClr val="000000"/>
              </a:solidFill>
              <a:latin typeface="Comic Sans MS"/>
            </a:endParaRPr>
          </a:p>
          <a:p>
            <a:pPr lvl="2" marL="1108440" indent="-221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to other caregivers</a:t>
            </a:r>
            <a:endParaRPr b="0" lang="en-US" sz="20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9mo -2/3yrs - try to follow primary caregiver</a:t>
            </a:r>
            <a:endParaRPr b="0" lang="en-US" sz="2400" spc="-1" strike="noStrike">
              <a:solidFill>
                <a:srgbClr val="000000"/>
              </a:solidFill>
              <a:latin typeface="Comic Sans MS"/>
            </a:endParaRPr>
          </a:p>
          <a:p>
            <a:pPr lvl="1" marL="720720" indent="-277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2yr9mo -3yr - better able to accept parents temporary absence</a:t>
            </a:r>
            <a:endParaRPr b="0" lang="en-US" sz="2400" spc="-1" strike="noStrike">
              <a:solidFill>
                <a:srgbClr val="000000"/>
              </a:solidFill>
              <a:latin typeface="Comic Sans MS"/>
            </a:endParaRPr>
          </a:p>
          <a:p>
            <a:pPr marL="332640" indent="-3326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201" name=""/>
          <p:cNvSpPr txBox="1"/>
          <p:nvPr/>
        </p:nvSpPr>
        <p:spPr>
          <a:xfrm>
            <a:off x="1182240" y="1600200"/>
            <a:ext cx="7504200" cy="45324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Maternal or Human Attachment?</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utter, 1981 and Bower, 1982</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ea typeface="ＭＳ Ｐゴシック"/>
              </a:rPr>
              <a:t>Maternal deprivation</a:t>
            </a:r>
            <a:r>
              <a:rPr b="0" lang="en-US" sz="2000" spc="-1" strike="noStrike">
                <a:solidFill>
                  <a:srgbClr val="000000"/>
                </a:solidFill>
                <a:latin typeface="Comic Sans MS"/>
                <a:ea typeface="ＭＳ Ｐゴシック"/>
              </a:rPr>
              <a:t>: too restrictive of a definition</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
            </a:r>
            <a:r>
              <a:rPr b="0" lang="en-US" sz="2000" spc="-1" strike="noStrike">
                <a:solidFill>
                  <a:srgbClr val="000000"/>
                </a:solidFill>
                <a:latin typeface="Comic Sans MS"/>
                <a:ea typeface="ＭＳ Ｐゴシック"/>
              </a:rPr>
              <a:t>Human Attachment” more appropriate term that covers all possible attachments</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Tizard and Hodges - 1978 </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Early deprivation reversible?</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Observed children raised in institution but later adopted</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hildren did form bonds as late as  4-6 years old </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But “exhibited same attention and social problems in school as those who remained in the institution”</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Development of Attachment</a:t>
            </a:r>
            <a:endParaRPr b="0" lang="en-US" sz="4400" spc="-1" strike="noStrike">
              <a:solidFill>
                <a:srgbClr val="000000"/>
              </a:solidFill>
              <a:latin typeface="Comic Sans MS"/>
            </a:endParaRPr>
          </a:p>
        </p:txBody>
      </p:sp>
      <p:sp>
        <p:nvSpPr>
          <p:cNvPr id="203"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Ainsworth - 1973</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ttachment possible after early “sensitive perio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ree classifications of attachment: avoidant/ insecure, ambivalent/insecurely, and securely attached</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04" name="Picture 2" descr=""/>
          <p:cNvPicPr/>
          <p:nvPr/>
        </p:nvPicPr>
        <p:blipFill>
          <a:blip r:embed="rId1"/>
          <a:stretch/>
        </p:blipFill>
        <p:spPr>
          <a:xfrm>
            <a:off x="1981080" y="3276720"/>
            <a:ext cx="4926240" cy="3279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533160"/>
            <a:ext cx="716292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velopment of Attachment</a:t>
            </a:r>
            <a:endParaRPr b="0" lang="en-US" sz="4000" spc="-1" strike="noStrike">
              <a:solidFill>
                <a:srgbClr val="000000"/>
              </a:solidFill>
              <a:latin typeface="Comic Sans MS"/>
            </a:endParaRPr>
          </a:p>
        </p:txBody>
      </p:sp>
      <p:sp>
        <p:nvSpPr>
          <p:cNvPr id="206" name=""/>
          <p:cNvSpPr txBox="1"/>
          <p:nvPr/>
        </p:nvSpPr>
        <p:spPr>
          <a:xfrm>
            <a:off x="1066680" y="1599840"/>
            <a:ext cx="7315200" cy="38862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razelton and Yogman - 1986</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stages to attachment  (0 - 4/5 month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hieve homeostatic contro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and attend to social cu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ility to take in and respond to the information as well as to withdraw</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s a sense of autonomy and initiates and responds to cu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07" name="Picture 2" descr=""/>
          <p:cNvPicPr/>
          <p:nvPr/>
        </p:nvPicPr>
        <p:blipFill>
          <a:blip r:embed="rId1"/>
          <a:stretch/>
        </p:blipFill>
        <p:spPr>
          <a:xfrm>
            <a:off x="2438280" y="4800600"/>
            <a:ext cx="4699080" cy="17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Attachment Concerns</a:t>
            </a:r>
            <a:endParaRPr b="0" lang="en-US" sz="4400" spc="-1" strike="noStrike">
              <a:solidFill>
                <a:srgbClr val="000000"/>
              </a:solidFill>
              <a:latin typeface="Comic Sans MS"/>
            </a:endParaRPr>
          </a:p>
        </p:txBody>
      </p:sp>
      <p:sp>
        <p:nvSpPr>
          <p:cNvPr id="20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Three parental groups of concer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Parents that didn’t have strong parental role mod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Isolated and insecure parents with no support system</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usy parents or those away from home for extended periods of tim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Development</a:t>
            </a:r>
            <a:endParaRPr b="0" lang="en-US" sz="4400" spc="-1" strike="noStrike">
              <a:solidFill>
                <a:srgbClr val="000000"/>
              </a:solidFill>
              <a:latin typeface="Comic Sans MS"/>
            </a:endParaRPr>
          </a:p>
        </p:txBody>
      </p:sp>
      <p:sp>
        <p:nvSpPr>
          <p:cNvPr id="211"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zerotothree.org/child-development/brain-development/brain-quiz.htm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212" name="Picture 2" descr=""/>
          <p:cNvPicPr/>
          <p:nvPr/>
        </p:nvPicPr>
        <p:blipFill>
          <a:blip r:embed="rId2"/>
          <a:stretch/>
        </p:blipFill>
        <p:spPr>
          <a:xfrm>
            <a:off x="3657600" y="3809880"/>
            <a:ext cx="2236680" cy="2035440"/>
          </a:xfrm>
          <a:prstGeom prst="rect">
            <a:avLst/>
          </a:prstGeom>
          <a:ln w="0">
            <a:noFill/>
          </a:ln>
        </p:spPr>
      </p:pic>
      <p:pic>
        <p:nvPicPr>
          <p:cNvPr id="213" name="Picture 3" descr=""/>
          <p:cNvPicPr/>
          <p:nvPr/>
        </p:nvPicPr>
        <p:blipFill>
          <a:blip r:embed="rId3"/>
          <a:stretch/>
        </p:blipFill>
        <p:spPr>
          <a:xfrm>
            <a:off x="533520" y="457200"/>
            <a:ext cx="981000" cy="112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Chapter One Overview</a:t>
            </a:r>
            <a:endParaRPr b="0" lang="en-US" sz="4400" spc="-1" strike="noStrike">
              <a:solidFill>
                <a:srgbClr val="000000"/>
              </a:solidFill>
              <a:latin typeface="Comic Sans MS"/>
            </a:endParaRPr>
          </a:p>
        </p:txBody>
      </p:sp>
      <p:sp>
        <p:nvSpPr>
          <p:cNvPr id="161" name=""/>
          <p:cNvSpPr txBox="1"/>
          <p:nvPr/>
        </p:nvSpPr>
        <p:spPr>
          <a:xfrm>
            <a:off x="685800" y="1828800"/>
            <a:ext cx="7696080" cy="3657600"/>
          </a:xfrm>
          <a:prstGeom prst="rect">
            <a:avLst/>
          </a:prstGeom>
          <a:noFill/>
          <a:ln w="0">
            <a:noFill/>
          </a:ln>
        </p:spPr>
        <p:txBody>
          <a:bodyPr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Definition of Parent</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unds of Knowledge</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Child Development Theories</a:t>
            </a:r>
            <a:endParaRPr b="0" lang="en-US" sz="32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Ecological Systems Theory</a:t>
            </a:r>
            <a:endParaRPr b="0" lang="en-US" sz="28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ttachment</a:t>
            </a:r>
            <a:endParaRPr b="0" lang="en-US" sz="2800" spc="-1" strike="noStrike">
              <a:solidFill>
                <a:srgbClr val="000000"/>
              </a:solidFill>
              <a:latin typeface="Comic Sans MS"/>
            </a:endParaRPr>
          </a:p>
          <a:p>
            <a:pPr lvl="1" marL="690840" indent="-2656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Brain Research</a:t>
            </a:r>
            <a:endParaRPr b="0" lang="en-US" sz="28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Summar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Brain Development</a:t>
            </a:r>
            <a:endParaRPr b="0" lang="en-US" sz="4400" spc="-1" strike="noStrike">
              <a:solidFill>
                <a:srgbClr val="000000"/>
              </a:solidFill>
              <a:latin typeface="Comic Sans MS"/>
            </a:endParaRPr>
          </a:p>
        </p:txBody>
      </p:sp>
      <p:sp>
        <p:nvSpPr>
          <p:cNvPr id="215" name=""/>
          <p:cNvSpPr txBox="1"/>
          <p:nvPr/>
        </p:nvSpPr>
        <p:spPr>
          <a:xfrm>
            <a:off x="685800" y="1828800"/>
            <a:ext cx="7696080" cy="3657600"/>
          </a:xfrm>
          <a:prstGeom prst="rect">
            <a:avLst/>
          </a:prstGeom>
          <a:noFill/>
          <a:ln w="0">
            <a:noFill/>
          </a:ln>
        </p:spPr>
        <p:txBody>
          <a:bodyPr anchor="t">
            <a:normAutofit/>
          </a:bodyPr>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Brain and spinal cord begin development a few days after conception</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Develops in integrated, overlapping fashion</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Number of neurons peak before birth</a:t>
            </a:r>
            <a:endParaRPr b="0" lang="en-US" sz="2600" spc="-1" strike="noStrike">
              <a:solidFill>
                <a:srgbClr val="000000"/>
              </a:solidFill>
              <a:latin typeface="Comic Sans MS"/>
            </a:endParaRPr>
          </a:p>
          <a:p>
            <a:pPr marL="343080" indent="-34308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ＭＳ Ｐゴシック"/>
              </a:rPr>
              <a:t>Genes and the Environment</a:t>
            </a:r>
            <a:endParaRPr b="0" lang="en-US" sz="26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Genes responsible for basic wiring plan</a:t>
            </a:r>
            <a:endParaRPr b="0" lang="en-US" sz="22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Experience is responsible for the fine-tuning of these connections</a:t>
            </a:r>
            <a:endParaRPr b="0" lang="en-US" sz="2200" spc="-1" strike="noStrike">
              <a:solidFill>
                <a:srgbClr val="000000"/>
              </a:solidFill>
              <a:latin typeface="Comic Sans MS"/>
            </a:endParaRPr>
          </a:p>
          <a:p>
            <a:pPr lvl="2" marL="1143000" indent="-228600">
              <a:lnSpc>
                <a:spcPct val="8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ea typeface="ＭＳ Ｐゴシック"/>
              </a:rPr>
              <a:t>“</a:t>
            </a:r>
            <a:r>
              <a:rPr b="0" lang="en-US" sz="1900" spc="-1" strike="noStrike">
                <a:solidFill>
                  <a:srgbClr val="000000"/>
                </a:solidFill>
                <a:latin typeface="Comic Sans MS"/>
                <a:ea typeface="ＭＳ Ｐゴシック"/>
              </a:rPr>
              <a:t>the environment participates in sculpting expression of the genome”</a:t>
            </a:r>
            <a:endParaRPr b="0" lang="en-US" sz="19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ＭＳ Ｐゴシック"/>
              </a:rPr>
              <a:t>Brain Development</a:t>
            </a:r>
            <a:endParaRPr b="0" lang="en-US" sz="5400" spc="-1" strike="noStrike">
              <a:solidFill>
                <a:srgbClr val="000000"/>
              </a:solidFill>
              <a:latin typeface="Comic Sans MS"/>
            </a:endParaRPr>
          </a:p>
        </p:txBody>
      </p:sp>
      <p:sp>
        <p:nvSpPr>
          <p:cNvPr id="217" name=""/>
          <p:cNvSpPr txBox="1"/>
          <p:nvPr/>
        </p:nvSpPr>
        <p:spPr>
          <a:xfrm>
            <a:off x="1182240" y="1600200"/>
            <a:ext cx="7580520" cy="4532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Interactions and Brain Developmen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2: equal number of synapses as adults (es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3: 2.5x more active brain than adult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3: quadrillion synapses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Age 19: decrease to adult levels ~500 trilli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 Development</a:t>
            </a:r>
            <a:endParaRPr b="0" lang="en-US" sz="4400" spc="-1" strike="noStrike">
              <a:solidFill>
                <a:srgbClr val="000000"/>
              </a:solidFill>
              <a:latin typeface="Comic Sans MS"/>
            </a:endParaRPr>
          </a:p>
        </p:txBody>
      </p:sp>
      <p:sp>
        <p:nvSpPr>
          <p:cNvPr id="219" name=""/>
          <p:cNvSpPr txBox="1"/>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Huttenlocker</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reas of the brain have different patterns of synapse development and pruning</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osca, Adolph, and Johnson - 2010</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The more opportunities for exploration and movement the infant is given, the greater the chances for acquisition of new skills.</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hore, 1997  </a:t>
            </a:r>
            <a:endParaRPr b="0" lang="en-US" sz="2400" spc="-1" strike="noStrike">
              <a:solidFill>
                <a:srgbClr val="000000"/>
              </a:solidFill>
              <a:latin typeface="Comic Sans MS"/>
            </a:endParaRPr>
          </a:p>
          <a:p>
            <a:pPr lvl="1" marL="735480" indent="-2829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sed synapses, strengthen and become permanent; if not used repeatedly, they are pruned.</a:t>
            </a:r>
            <a:endParaRPr b="0" lang="en-US" sz="20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How Can We Grow a Healthy Brain?</a:t>
            </a:r>
            <a:endParaRPr b="0" lang="en-US" sz="4400" spc="-1" strike="noStrike">
              <a:solidFill>
                <a:srgbClr val="000000"/>
              </a:solidFill>
              <a:latin typeface="Comic Sans MS"/>
            </a:endParaRPr>
          </a:p>
        </p:txBody>
      </p:sp>
      <p:sp>
        <p:nvSpPr>
          <p:cNvPr id="221" name=""/>
          <p:cNvSpPr txBox="1"/>
          <p:nvPr/>
        </p:nvSpPr>
        <p:spPr>
          <a:xfrm>
            <a:off x="685800" y="1371600"/>
            <a:ext cx="7696080" cy="4114800"/>
          </a:xfrm>
          <a:prstGeom prst="rect">
            <a:avLst/>
          </a:prstGeom>
          <a:noFill/>
          <a:ln w="0">
            <a:noFill/>
          </a:ln>
        </p:spPr>
        <p:txBody>
          <a:bodyPr anchor="t">
            <a:normAutofit fontScale="93000"/>
          </a:bodyPr>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18960" indent="-318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Language Interactions with Parents or Caregivers</a:t>
            </a:r>
            <a:endParaRPr b="0" lang="en-US" sz="28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afe, secure environment to make child feel valued and respected</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Gentle, loving touches and eye contact</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Hear language and songs during daily routines</a:t>
            </a:r>
            <a:endParaRPr b="0" lang="en-US" sz="2400" spc="-1" strike="noStrike">
              <a:solidFill>
                <a:srgbClr val="000000"/>
              </a:solidFill>
              <a:latin typeface="Comic Sans MS"/>
            </a:endParaRPr>
          </a:p>
          <a:p>
            <a:pPr lvl="2" marL="1062720" indent="-2124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Nursery rhymes, fingerplays, movement games</a:t>
            </a:r>
            <a:endParaRPr b="0" lang="en-US" sz="20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esponding to baby’s gurgles and coos</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Reading simple, colorful picture books</a:t>
            </a:r>
            <a:endParaRPr b="0" lang="en-US" sz="2400" spc="-1" strike="noStrike">
              <a:solidFill>
                <a:srgbClr val="000000"/>
              </a:solidFill>
              <a:latin typeface="Comic Sans MS"/>
            </a:endParaRPr>
          </a:p>
          <a:p>
            <a:pPr lvl="1" marL="690840" indent="-265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How Can We Grow a Healthy Brain?</a:t>
            </a:r>
            <a:endParaRPr b="0" lang="en-US" sz="4400" spc="-1" strike="noStrike">
              <a:solidFill>
                <a:srgbClr val="000000"/>
              </a:solidFill>
              <a:latin typeface="Comic Sans MS"/>
            </a:endParaRPr>
          </a:p>
        </p:txBody>
      </p:sp>
      <p:sp>
        <p:nvSpPr>
          <p:cNvPr id="223" name=""/>
          <p:cNvSpPr txBox="1"/>
          <p:nvPr/>
        </p:nvSpPr>
        <p:spPr>
          <a:xfrm>
            <a:off x="914400" y="1752120"/>
            <a:ext cx="7772400" cy="43801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ＭＳ Ｐゴシック"/>
              </a:rPr>
              <a:t>Emotional and Cognitive Interactions with Parents and Caregiver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Greenspan, 2002 -  Six levels of developing emotional and intellectual health</a:t>
            </a:r>
            <a:endParaRPr b="0" lang="en-US" sz="24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child responds with interest and pleasure to touch and talk from familiar caregiver</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infants begin to respond to parent’s smile (~4mo)</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greater ability to problem-solve (12-18mo)</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ffect cueing (toddlers)</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ymbols that have purpose and meaning (pre-teen)</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bility to use cause-and effect thinking</a:t>
            </a:r>
            <a:endParaRPr b="0" lang="en-US" sz="2000" spc="-1" strike="noStrike">
              <a:solidFill>
                <a:srgbClr val="000000"/>
              </a:solidFill>
              <a:latin typeface="Comic Sans MS"/>
            </a:endParaRPr>
          </a:p>
          <a:p>
            <a:pPr lvl="2" marL="1371600" indent="-457200">
              <a:spcBef>
                <a:spcPts val="499"/>
              </a:spcBef>
              <a:buClr>
                <a:srgbClr val="000000"/>
              </a:buClr>
              <a:buSzPct val="8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920" y="617400"/>
            <a:ext cx="7524720" cy="90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Positive Environment, Healthy Families, and Children</a:t>
            </a:r>
            <a:endParaRPr b="0" lang="en-US" sz="3200" spc="-1" strike="noStrike">
              <a:solidFill>
                <a:srgbClr val="000000"/>
              </a:solidFill>
              <a:latin typeface="Comic Sans MS"/>
            </a:endParaRPr>
          </a:p>
        </p:txBody>
      </p:sp>
      <p:sp>
        <p:nvSpPr>
          <p:cNvPr id="225" name=""/>
          <p:cNvSpPr txBox="1"/>
          <p:nvPr/>
        </p:nvSpPr>
        <p:spPr>
          <a:xfrm>
            <a:off x="685800" y="182880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 based on both genes and experiences</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interactions directly affect the way the brain is wired</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 is non-linear</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Early stimulation is essential to normal development</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80880"/>
            <a:ext cx="7391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Insights for Teachers &amp; Administrators</a:t>
            </a:r>
            <a:endParaRPr b="0" lang="en-US" sz="3200" spc="-1" strike="noStrike">
              <a:solidFill>
                <a:srgbClr val="000000"/>
              </a:solidFill>
              <a:latin typeface="Comic Sans MS"/>
            </a:endParaRPr>
          </a:p>
        </p:txBody>
      </p:sp>
      <p:sp>
        <p:nvSpPr>
          <p:cNvPr id="227" name=""/>
          <p:cNvSpPr txBox="1"/>
          <p:nvPr/>
        </p:nvSpPr>
        <p:spPr>
          <a:xfrm>
            <a:off x="761760" y="1523880"/>
            <a:ext cx="7924680" cy="4608720"/>
          </a:xfrm>
          <a:prstGeom prst="rect">
            <a:avLst/>
          </a:prstGeom>
          <a:noFill/>
          <a:ln w="0">
            <a:noFill/>
          </a:ln>
        </p:spPr>
        <p:txBody>
          <a:bodyPr anchor="t">
            <a:normAutofit/>
          </a:bodyPr>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Knowing different perspectives or theories regarding child development can help us understand parents’ childrearing practice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trong attachments make strong children—give parents an opportunity to get used to leaving their children in the care of other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Know the needs of the families, as this will enable you to assist families with their needs as well as their children’s needs.</a:t>
            </a:r>
            <a:endParaRPr b="0" lang="en-US" sz="2400" spc="-1" strike="noStrike">
              <a:solidFill>
                <a:srgbClr val="000000"/>
              </a:solidFill>
              <a:latin typeface="Comic Sans MS"/>
            </a:endParaRPr>
          </a:p>
          <a:p>
            <a:pPr marL="457200" indent="-457200">
              <a:lnSpc>
                <a:spcPct val="90000"/>
              </a:lnSpc>
              <a:spcBef>
                <a:spcPts val="601"/>
              </a:spcBef>
              <a:buClr>
                <a:srgbClr val="000000"/>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Find resources around the  community that will help the center or school support children’s developmen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mily</a:t>
            </a:r>
            <a:endParaRPr b="0" lang="en-US" sz="4400" spc="-1" strike="noStrike">
              <a:solidFill>
                <a:srgbClr val="000000"/>
              </a:solidFill>
              <a:latin typeface="Comic Sans MS"/>
            </a:endParaRPr>
          </a:p>
        </p:txBody>
      </p:sp>
      <p:pic>
        <p:nvPicPr>
          <p:cNvPr id="163" name="Picture 2" descr="C:\Users\Trent Family\AppData\Local\Microsoft\Windows\Temporary Internet Files\Content.IE5\EK2BVUDS\MP900442281[1].jpg"/>
          <p:cNvPicPr/>
          <p:nvPr/>
        </p:nvPicPr>
        <p:blipFill>
          <a:blip r:embed="rId1"/>
          <a:stretch/>
        </p:blipFill>
        <p:spPr>
          <a:xfrm>
            <a:off x="6980400" y="1752480"/>
            <a:ext cx="1942920" cy="1295640"/>
          </a:xfrm>
          <a:prstGeom prst="rect">
            <a:avLst/>
          </a:prstGeom>
          <a:ln w="0">
            <a:noFill/>
          </a:ln>
        </p:spPr>
      </p:pic>
      <p:pic>
        <p:nvPicPr>
          <p:cNvPr id="164" name="Picture 3" descr="C:\Users\Trent Family\AppData\Local\Microsoft\Windows\Temporary Internet Files\Content.IE5\MFJG29FO\MP900442525[1].jpg"/>
          <p:cNvPicPr/>
          <p:nvPr/>
        </p:nvPicPr>
        <p:blipFill>
          <a:blip r:embed="rId2"/>
          <a:stretch/>
        </p:blipFill>
        <p:spPr>
          <a:xfrm>
            <a:off x="2727360" y="3422520"/>
            <a:ext cx="1942920" cy="1295640"/>
          </a:xfrm>
          <a:prstGeom prst="rect">
            <a:avLst/>
          </a:prstGeom>
          <a:ln w="0">
            <a:noFill/>
          </a:ln>
        </p:spPr>
      </p:pic>
      <p:pic>
        <p:nvPicPr>
          <p:cNvPr id="165" name="Picture 4" descr="C:\Users\Trent Family\AppData\Local\Microsoft\Windows\Temporary Internet Files\Content.IE5\EK2BVUDS\MP900446488[1].jpg"/>
          <p:cNvPicPr/>
          <p:nvPr/>
        </p:nvPicPr>
        <p:blipFill>
          <a:blip r:embed="rId3"/>
          <a:stretch/>
        </p:blipFill>
        <p:spPr>
          <a:xfrm>
            <a:off x="4716360" y="3171960"/>
            <a:ext cx="2171880" cy="1447560"/>
          </a:xfrm>
          <a:prstGeom prst="rect">
            <a:avLst/>
          </a:prstGeom>
          <a:ln w="0">
            <a:noFill/>
          </a:ln>
        </p:spPr>
      </p:pic>
      <p:pic>
        <p:nvPicPr>
          <p:cNvPr id="166" name="Picture 5" descr="C:\Users\Trent Family\AppData\Local\Microsoft\Windows\Temporary Internet Files\Content.IE5\RD0RRLL3\MP900448491[1].jpg"/>
          <p:cNvPicPr/>
          <p:nvPr/>
        </p:nvPicPr>
        <p:blipFill>
          <a:blip r:embed="rId4"/>
          <a:stretch/>
        </p:blipFill>
        <p:spPr>
          <a:xfrm>
            <a:off x="555480" y="3886200"/>
            <a:ext cx="2171880" cy="1447920"/>
          </a:xfrm>
          <a:prstGeom prst="rect">
            <a:avLst/>
          </a:prstGeom>
          <a:ln w="0">
            <a:noFill/>
          </a:ln>
        </p:spPr>
      </p:pic>
      <p:pic>
        <p:nvPicPr>
          <p:cNvPr id="167" name="Picture 6" descr="C:\Users\Trent Family\AppData\Local\Microsoft\Windows\Temporary Internet Files\Content.IE5\EK2BVUDS\MP900438615[1].jpg"/>
          <p:cNvPicPr/>
          <p:nvPr/>
        </p:nvPicPr>
        <p:blipFill>
          <a:blip r:embed="rId5"/>
          <a:stretch/>
        </p:blipFill>
        <p:spPr>
          <a:xfrm>
            <a:off x="3048120" y="1378080"/>
            <a:ext cx="1849320" cy="1557360"/>
          </a:xfrm>
          <a:prstGeom prst="rect">
            <a:avLst/>
          </a:prstGeom>
          <a:ln w="0">
            <a:noFill/>
          </a:ln>
        </p:spPr>
      </p:pic>
      <p:pic>
        <p:nvPicPr>
          <p:cNvPr id="168" name="Picture 8" descr="C:\Users\Trent Family\AppData\Local\Microsoft\Windows\Temporary Internet Files\Content.IE5\RD0RRLL3\MP900442266[1].jpg"/>
          <p:cNvPicPr/>
          <p:nvPr/>
        </p:nvPicPr>
        <p:blipFill>
          <a:blip r:embed="rId6"/>
          <a:stretch/>
        </p:blipFill>
        <p:spPr>
          <a:xfrm>
            <a:off x="3914640" y="4960800"/>
            <a:ext cx="2163960" cy="1441440"/>
          </a:xfrm>
          <a:prstGeom prst="rect">
            <a:avLst/>
          </a:prstGeom>
          <a:ln w="0">
            <a:noFill/>
          </a:ln>
        </p:spPr>
      </p:pic>
      <p:pic>
        <p:nvPicPr>
          <p:cNvPr id="169" name="Picture 9" descr="C:\Users\Trent Family\AppData\Local\Microsoft\Windows\Temporary Internet Files\Content.IE5\ES7SU50I\MP900407131[1].jpg"/>
          <p:cNvPicPr/>
          <p:nvPr/>
        </p:nvPicPr>
        <p:blipFill>
          <a:blip r:embed="rId7"/>
          <a:stretch/>
        </p:blipFill>
        <p:spPr>
          <a:xfrm>
            <a:off x="6208560" y="5084640"/>
            <a:ext cx="1930680" cy="1285920"/>
          </a:xfrm>
          <a:prstGeom prst="rect">
            <a:avLst/>
          </a:prstGeom>
          <a:ln w="0">
            <a:noFill/>
          </a:ln>
        </p:spPr>
      </p:pic>
      <p:pic>
        <p:nvPicPr>
          <p:cNvPr id="170" name="Picture 10" descr="C:\Users\Trent Family\AppData\Local\Microsoft\Windows\Temporary Internet Files\Content.IE5\EK2BVUDS\MP900446484[1].jpg"/>
          <p:cNvPicPr/>
          <p:nvPr/>
        </p:nvPicPr>
        <p:blipFill>
          <a:blip r:embed="rId8"/>
          <a:stretch/>
        </p:blipFill>
        <p:spPr>
          <a:xfrm>
            <a:off x="544680" y="457200"/>
            <a:ext cx="1117440" cy="1676520"/>
          </a:xfrm>
          <a:prstGeom prst="rect">
            <a:avLst/>
          </a:prstGeom>
          <a:ln w="0">
            <a:noFill/>
          </a:ln>
        </p:spPr>
      </p:pic>
      <p:pic>
        <p:nvPicPr>
          <p:cNvPr id="171" name="Picture 12" descr="C:\Users\Trent Family\AppData\Local\Microsoft\Windows\Temporary Internet Files\Content.IE5\RD0RRLL3\MP900408954[1].jpg"/>
          <p:cNvPicPr/>
          <p:nvPr/>
        </p:nvPicPr>
        <p:blipFill>
          <a:blip r:embed="rId9"/>
          <a:stretch/>
        </p:blipFill>
        <p:spPr>
          <a:xfrm>
            <a:off x="6078600" y="311040"/>
            <a:ext cx="1619280" cy="1079640"/>
          </a:xfrm>
          <a:prstGeom prst="rect">
            <a:avLst/>
          </a:prstGeom>
          <a:ln w="0">
            <a:noFill/>
          </a:ln>
        </p:spPr>
      </p:pic>
      <p:pic>
        <p:nvPicPr>
          <p:cNvPr id="172" name="Picture 13" descr="C:\Users\Trent Family\AppData\Local\Microsoft\Windows\Temporary Internet Files\Content.IE5\MFJG29FO\MP900408953[1].jpg"/>
          <p:cNvPicPr/>
          <p:nvPr/>
        </p:nvPicPr>
        <p:blipFill>
          <a:blip r:embed="rId10"/>
          <a:stretch/>
        </p:blipFill>
        <p:spPr>
          <a:xfrm>
            <a:off x="5164200" y="1523880"/>
            <a:ext cx="1587600" cy="1524240"/>
          </a:xfrm>
          <a:prstGeom prst="rect">
            <a:avLst/>
          </a:prstGeom>
          <a:ln w="0">
            <a:noFill/>
          </a:ln>
        </p:spPr>
      </p:pic>
      <p:pic>
        <p:nvPicPr>
          <p:cNvPr id="173" name="Picture 15" descr="C:\Users\Trent Family\AppData\Local\Microsoft\Windows\Temporary Internet Files\Content.IE5\MFJG29FO\MP900401385[1].jpg"/>
          <p:cNvPicPr/>
          <p:nvPr/>
        </p:nvPicPr>
        <p:blipFill>
          <a:blip r:embed="rId11"/>
          <a:stretch/>
        </p:blipFill>
        <p:spPr>
          <a:xfrm>
            <a:off x="511200" y="2286000"/>
            <a:ext cx="2171520" cy="1446120"/>
          </a:xfrm>
          <a:prstGeom prst="rect">
            <a:avLst/>
          </a:prstGeom>
          <a:ln w="0">
            <a:noFill/>
          </a:ln>
        </p:spPr>
      </p:pic>
      <p:pic>
        <p:nvPicPr>
          <p:cNvPr id="174" name="Picture 16" descr="C:\Users\Trent Family\AppData\Local\Microsoft\Windows\Temporary Internet Files\Content.IE5\EK2BVUDS\MP900399414[1].jpg"/>
          <p:cNvPicPr/>
          <p:nvPr/>
        </p:nvPicPr>
        <p:blipFill>
          <a:blip r:embed="rId12"/>
          <a:stretch/>
        </p:blipFill>
        <p:spPr>
          <a:xfrm>
            <a:off x="1905120" y="5373720"/>
            <a:ext cx="1950840" cy="1299960"/>
          </a:xfrm>
          <a:prstGeom prst="rect">
            <a:avLst/>
          </a:prstGeom>
          <a:ln w="0">
            <a:noFill/>
          </a:ln>
        </p:spPr>
      </p:pic>
      <p:pic>
        <p:nvPicPr>
          <p:cNvPr id="175" name="Picture 17" descr="C:\Users\Trent Family\AppData\Local\Microsoft\Windows\Temporary Internet Files\Content.IE5\MFJG29FO\MP900178828[1].jpg"/>
          <p:cNvPicPr/>
          <p:nvPr/>
        </p:nvPicPr>
        <p:blipFill>
          <a:blip r:embed="rId13"/>
          <a:stretch/>
        </p:blipFill>
        <p:spPr>
          <a:xfrm>
            <a:off x="7043760" y="3297240"/>
            <a:ext cx="1992240" cy="132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What is a Parent?</a:t>
            </a:r>
            <a:endParaRPr b="0" lang="en-US" sz="4400" spc="-1" strike="noStrike">
              <a:solidFill>
                <a:srgbClr val="000000"/>
              </a:solidFill>
              <a:latin typeface="Comic Sans MS"/>
            </a:endParaRPr>
          </a:p>
        </p:txBody>
      </p:sp>
      <p:sp>
        <p:nvSpPr>
          <p:cNvPr id="177" name=""/>
          <p:cNvSpPr txBox="1"/>
          <p:nvPr/>
        </p:nvSpPr>
        <p:spPr>
          <a:xfrm>
            <a:off x="685800" y="1142640"/>
            <a:ext cx="7696080" cy="434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Those in primary caregiver/parent role</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Those that help meet cognitive, linguistic, physical, socioemotional, cultural needs</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n individual</a:t>
            </a:r>
            <a:endParaRPr b="0" lang="en-US" sz="32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Biological Parent, Relative, Adoptive Parent, Foster Parent, Nonrelated Caregiver, Grandparents</a:t>
            </a:r>
            <a:endParaRPr b="0" lang="en-US" sz="24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 group of individual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152280"/>
            <a:ext cx="687096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Funds of Knowledge</a:t>
            </a:r>
            <a:endParaRPr b="0" lang="en-US" sz="4400" spc="-1" strike="noStrike">
              <a:solidFill>
                <a:srgbClr val="000000"/>
              </a:solidFill>
              <a:latin typeface="Comic Sans MS"/>
            </a:endParaRPr>
          </a:p>
        </p:txBody>
      </p:sp>
      <p:sp>
        <p:nvSpPr>
          <p:cNvPr id="179" name=""/>
          <p:cNvSpPr txBox="1"/>
          <p:nvPr/>
        </p:nvSpPr>
        <p:spPr>
          <a:xfrm>
            <a:off x="685800" y="1295280"/>
            <a:ext cx="7696080" cy="4191120"/>
          </a:xfrm>
          <a:prstGeom prst="rect">
            <a:avLst/>
          </a:prstGeom>
          <a:noFill/>
          <a:ln w="0">
            <a:noFill/>
          </a:ln>
        </p:spPr>
        <p:txBody>
          <a:bodyPr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s role as first teacher</a:t>
            </a:r>
            <a:endParaRPr b="0" lang="en-US" sz="32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Families pass concepts/knowledge to help child grow and thrive</a:t>
            </a:r>
            <a:endParaRPr b="0" lang="en-US" sz="24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Knowledge areas include:</a:t>
            </a:r>
            <a:endParaRPr b="0" lang="en-US" sz="3200" spc="-1" strike="noStrike">
              <a:solidFill>
                <a:srgbClr val="000000"/>
              </a:solidFill>
              <a:latin typeface="Comic Sans MS"/>
            </a:endParaRPr>
          </a:p>
          <a:p>
            <a:pPr lvl="1" marL="735480" indent="-282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Cultural practices, childrearing practices, traditions, social norms, family values, language, value of education</a:t>
            </a:r>
            <a:endParaRPr b="0" lang="en-US" sz="24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Vary between cultures and individual famili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nds of Knowledge</a:t>
            </a:r>
            <a:endParaRPr b="0" lang="en-US" sz="4400" spc="-1" strike="noStrike">
              <a:solidFill>
                <a:srgbClr val="000000"/>
              </a:solidFill>
              <a:latin typeface="Comic Sans MS"/>
            </a:endParaRPr>
          </a:p>
        </p:txBody>
      </p:sp>
      <p:sp>
        <p:nvSpPr>
          <p:cNvPr id="181"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her of son with Down’s Syndrome helps him figure out a tip at a local restaura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her helps a child sort the silverware when unloading the dishwash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ndfather frequently talks about union concerns and why grandchildren need to be involved with social justic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Child Development Theories</a:t>
            </a:r>
            <a:endParaRPr b="0" lang="en-US" sz="4400" spc="-1" strike="noStrike">
              <a:solidFill>
                <a:srgbClr val="000000"/>
              </a:solidFill>
              <a:latin typeface="Comic Sans MS"/>
            </a:endParaRPr>
          </a:p>
        </p:txBody>
      </p:sp>
      <p:sp>
        <p:nvSpPr>
          <p:cNvPr id="18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 Ecological Systems Theo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Attachment Theor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Brain Developme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Ecological  Systems Theory</a:t>
            </a:r>
            <a:endParaRPr b="0" lang="en-US" sz="4400" spc="-1" strike="noStrike">
              <a:solidFill>
                <a:srgbClr val="000000"/>
              </a:solidFill>
              <a:latin typeface="Comic Sans MS"/>
            </a:endParaRPr>
          </a:p>
        </p:txBody>
      </p:sp>
      <p:sp>
        <p:nvSpPr>
          <p:cNvPr id="185" name=""/>
          <p:cNvSpPr txBox="1"/>
          <p:nvPr/>
        </p:nvSpPr>
        <p:spPr>
          <a:xfrm>
            <a:off x="685800" y="1828800"/>
            <a:ext cx="7696080" cy="3657600"/>
          </a:xfrm>
          <a:prstGeom prst="rect">
            <a:avLst/>
          </a:prstGeom>
          <a:noFill/>
          <a:ln w="0">
            <a:noFill/>
          </a:ln>
        </p:spPr>
        <p:txBody>
          <a:bodyPr anchor="t">
            <a:normAutofit fontScale="95000"/>
          </a:bodyPr>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Developed by Bronfenbrenner, 1979 and 1986. </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Family systems guided by cultural and historical backgrounds</a:t>
            </a:r>
            <a:endParaRPr b="0" lang="en-US" sz="3200" spc="-1" strike="noStrike">
              <a:solidFill>
                <a:srgbClr val="000000"/>
              </a:solidFill>
              <a:latin typeface="Comic Sans MS"/>
            </a:endParaRPr>
          </a:p>
          <a:p>
            <a:pPr lvl="1" marL="325800" indent="-325800">
              <a:spcBef>
                <a:spcPts val="799"/>
              </a:spcBef>
              <a:buClr>
                <a:srgbClr val="703dff"/>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Systems adjust based on life events</a:t>
            </a:r>
            <a:endParaRPr b="0" lang="en-US" sz="3200" spc="-1" strike="noStrike">
              <a:solidFill>
                <a:srgbClr val="000000"/>
              </a:solidFill>
              <a:latin typeface="Comic Sans MS"/>
            </a:endParaRPr>
          </a:p>
          <a:p>
            <a:pPr lvl="1" marL="325800" indent="-325800">
              <a:spcBef>
                <a:spcPts val="799"/>
              </a:spcBef>
              <a:buClr>
                <a:srgbClr val="703dff"/>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ＭＳ Ｐゴシック"/>
              </a:rPr>
              <a:t>Child’s development related to experiences in entire environment</a:t>
            </a:r>
            <a:endParaRPr b="0" lang="en-US" sz="3200" spc="-1" strike="noStrike">
              <a:solidFill>
                <a:srgbClr val="000000"/>
              </a:solidFill>
              <a:latin typeface="Comic Sans MS"/>
            </a:endParaRPr>
          </a:p>
          <a:p>
            <a:pPr marL="325800" indent="-3258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52280"/>
            <a:ext cx="74674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ＭＳ Ｐゴシック"/>
              </a:rPr>
              <a:t>Ecological  Systems Theory</a:t>
            </a:r>
            <a:endParaRPr b="0" lang="en-US" sz="4400" spc="-1" strike="noStrike">
              <a:solidFill>
                <a:srgbClr val="000000"/>
              </a:solidFill>
              <a:latin typeface="Comic Sans MS"/>
            </a:endParaRPr>
          </a:p>
        </p:txBody>
      </p:sp>
      <p:pic>
        <p:nvPicPr>
          <p:cNvPr id="187" name="Picture 4" descr="Fig 1_1 for Ch 1"/>
          <p:cNvPicPr/>
          <p:nvPr/>
        </p:nvPicPr>
        <p:blipFill>
          <a:blip r:embed="rId1"/>
          <a:stretch/>
        </p:blipFill>
        <p:spPr>
          <a:xfrm>
            <a:off x="1382760" y="1219320"/>
            <a:ext cx="5394240" cy="5249880"/>
          </a:xfrm>
          <a:prstGeom prst="rect">
            <a:avLst/>
          </a:prstGeom>
          <a:ln w="0">
            <a:noFill/>
          </a:ln>
        </p:spPr>
      </p:pic>
      <p:sp>
        <p:nvSpPr>
          <p:cNvPr id="188" name="Text Box 5"/>
          <p:cNvSpPr/>
          <p:nvPr/>
        </p:nvSpPr>
        <p:spPr>
          <a:xfrm>
            <a:off x="6765840" y="1633680"/>
            <a:ext cx="1920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6248520" y="5562720"/>
            <a:ext cx="23619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Based on </a:t>
            </a:r>
            <a:r>
              <a:rPr b="0" i="1" lang="en-US" sz="1100" spc="-1" strike="noStrike">
                <a:solidFill>
                  <a:srgbClr val="000000"/>
                </a:solidFill>
                <a:latin typeface="Arial"/>
              </a:rPr>
              <a:t>Making Human Beings Human: Bioecological Perspectives on Human Development</a:t>
            </a:r>
            <a:r>
              <a:rPr b="0" lang="en-US" sz="1100" spc="-1" strike="noStrike">
                <a:solidFill>
                  <a:srgbClr val="000000"/>
                </a:solidFill>
                <a:latin typeface="Arial"/>
              </a:rPr>
              <a:t> by U. Bronfenbrenner, 2005, Thousand Oaks, CA: Sag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1:47:23Z</dcterms:created>
  <dc:creator>Shane  Trent</dc:creator>
  <dc:description/>
  <dc:language>en-US</dc:language>
  <cp:lastModifiedBy>Trent Family</cp:lastModifiedBy>
  <dcterms:modified xsi:type="dcterms:W3CDTF">2011-08-29T01:40:42Z</dcterms:modified>
  <cp:revision>75</cp:revision>
  <dc:subject/>
  <dc:title>Sustaining Talk</dc:title>
</cp:coreProperties>
</file>